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CFD-AB65-4D2A-BB4C-1B716DC9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F12-C62B-48B2-876A-901D31D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150-91BA-418D-BF0C-AD954758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89C-1939-4085-9D80-810A66DA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AA4-8941-4BF6-9918-A087EE8C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871-2D14-4E5B-B98E-5BF31FB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E86-7390-4CB2-A8ED-C9662F93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3D4-6D03-4110-B2B3-27BF6151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480-A43D-4714-BAF2-7494EC2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2DC-19F9-4EB9-B3D3-A97596E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19D-0805-4F6A-BF96-CC5CF60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DE7-75A5-4C1C-B730-2C79026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7AC5-EDCB-4DB2-81EF-4E9703196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iera Foga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e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s are funny they like b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lso like bacon I am a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e Bears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very cute bear you can find it on clip art in 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likes b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292104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nge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upcake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not eat bacon it is aller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15920" y="2401920"/>
            <a:ext cx="292104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y holiday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ways tries to eat the cupcake bear even though I tell him no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ian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anadian bear he does not know his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ways has bacon as a midnight sn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Bear Is Being L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ar has lots of love from its 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1:54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3Z</dcterms:modified>
  <cp:revision>6</cp:revision>
  <dc:subject/>
  <dc:title>Funny Cats</dc:title>
</cp:coreProperties>
</file>